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CAA-D3E9-414E-A35E-E4470D1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F06-DEDA-46E7-A2A9-648009B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E16-F09E-4FBC-A80C-BEB45A56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EF6-714F-424B-BD9A-8781C1E6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6C94-2BC2-4430-87A5-DFDE270A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46F-D69B-460F-89D7-AE5DA849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525-2C12-4449-B650-C1D6F88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617-AA6A-4C3C-AEC1-12B90F1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4E1F-A9E3-4FE1-A7CA-E4CE44C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D60-08E5-4372-8AC0-51324CC9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B588-C7DB-401B-B7D9-006F0DC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233-70D8-4744-827C-CB3DBCA4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50A-1C63-4311-861F-AE3E5BC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EE21-D01C-4BBF-9116-C94856A8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63C3-4B66-4B33-8A01-C6FB6CC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179-A3CB-4D1D-A13D-088846A5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2D33-60CF-42D9-9E19-7F30D5F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088B-8A4E-46D7-B74D-6F373E0B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1077-92DF-4489-BE11-23D15F7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D1A0-D564-428D-950C-3BFD00F9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3D76-C821-4BAA-A0D7-05208CD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E409-2948-4851-B91E-629312A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D2C-2E73-41BF-8647-9C45BF1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9F3A-0251-4BE8-9B0E-68E5C972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CB80-5918-4BD7-B892-C615DF2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16D3-DAAE-4238-82A7-9E0B20C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0B9F-36DC-4073-8F62-DF232EF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DF25-BF4E-4DDB-AB0E-8C92AA5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9825-AD82-467B-AAA3-A496558C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3D2F-9B30-4B70-8964-46A22E5A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97CA-C770-4BAE-8FE8-1F02A77D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F733-31F4-4A9D-9A22-9897635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DE90-05B5-4C26-987B-460A3EA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DD8-D6FF-436D-896A-7569DFF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66FE-9547-4BC6-84DB-CB42E6F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06D1-0DBF-4C9C-B72F-B0814D7F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FAFD-6638-40F6-BFB8-678A493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A18E-3976-428E-A986-A6E2EC4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EE16-5609-4A8D-86F4-FCE731E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75B2-1661-4354-B7D2-315EE7E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79B0-C409-481A-BD64-99B022E5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7C04-4CBE-4326-854B-9937CF8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5C62-5607-48F4-8231-267B5B71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0A6C-8B04-48DD-950B-1306CDBF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718-C931-43D1-A48D-4812F5E1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B70A-8AB4-48D8-8470-6394B74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5EB6-0FE4-4011-906E-A3427CFF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00B6-9916-40F9-B839-DF8DBB6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54BC-55BA-4628-A2A2-9F96341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FCAA-634B-4D9B-8E04-48BDA02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E240-4165-4441-A221-2341CBD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42B9-9B38-454F-96E0-E5F0B5A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275E-C9A7-4171-9DA3-835F5B4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2C9A-C204-4031-9622-2B1F719C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4D58-3D1B-47AE-88A5-45038D1E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61E-4841-4BEB-A363-E8FBE8B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6261-6A21-47FF-95A4-C2A0B42E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B9-65A9-4F1D-98D7-1C2B98EA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6E3-FBFC-4E58-85E6-1B82D53F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F44-F457-47AB-87C6-4737A63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48B0-D91C-4D6A-9CE1-3B2A029617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91D-E374-4D32-9FCF-885E0DA4A4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9F2-3069-406E-88F3-6BFA6D6D17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465-43D7-4419-AF53-3EA2CBAED6B1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C68-3C9E-413E-A45E-396BEA58D8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INDUISM AND BUDDHISM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elief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Four Noble Truths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(heart of Buddhism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. all life is full of suffering, pain and sorrow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 cause of suffering is desire for worldly goods (possessions, love, etc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. only cure is to overcome this desir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4. to overcome this desire one must follow the Eightfold Pat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784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Eightfold Path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952880" y="166680"/>
            <a:ext cx="4000680" cy="42670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 rot="1992000">
            <a:off x="3056760" y="81936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Users\alyons\Desktop\Global 2013\Korean Photos\DSC_0913.JPG"/>
          <p:cNvPicPr/>
          <p:nvPr/>
        </p:nvPicPr>
        <p:blipFill>
          <a:blip r:embed="rId2"/>
          <a:stretch/>
        </p:blipFill>
        <p:spPr>
          <a:xfrm>
            <a:off x="5715000" y="4834080"/>
            <a:ext cx="3083040" cy="204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:\Users\alyons\Desktop\Global 2013\Korean Photos\DSC_0929.JPG"/>
          <p:cNvPicPr/>
          <p:nvPr/>
        </p:nvPicPr>
        <p:blipFill>
          <a:blip r:embed="rId3"/>
          <a:stretch/>
        </p:blipFill>
        <p:spPr>
          <a:xfrm>
            <a:off x="533520" y="2608200"/>
            <a:ext cx="41576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914400"/>
            <a:ext cx="75218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f you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Understand Four Noble Truth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llow Eightfold Pat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llow the </a:t>
            </a:r>
            <a:r>
              <a:rPr b="0" i="1" lang="en-US" sz="2800" spc="-1" strike="noStrike">
                <a:solidFill>
                  <a:srgbClr val="ff0000"/>
                </a:solidFill>
                <a:latin typeface="Franklin Gothic Book"/>
              </a:rPr>
              <a:t>Middle Path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/Middle Way-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life of balance not too much pleasure and not too much pai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nd Meditat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You can become Enlightened, or reach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Nirvana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, being one with the universe (no more reincarnation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pread of Buddh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ssionaries and traders spread Buddhism throughout Asia (Silk Roa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eclined in India however, many beliefs absorbed by Hinduis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ver time Buddhism was split into 2 major se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Franklin Gothic Book"/>
              </a:rPr>
              <a:t>Theravada-</a:t>
            </a: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most dedicated can reach enlightenm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Franklin Gothic Book"/>
              </a:rPr>
              <a:t>Mahayana-</a:t>
            </a:r>
            <a:r>
              <a:rPr b="0" lang="en-US" sz="1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rdinary people can reach enlightenm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5" descr="http://mrgrayhistory.wikispaces.com/file/view/China_-_Spread_Buddhism.jpg/244021519/827x575/China_-_Spread_Buddhism.jpg"/>
          <p:cNvPicPr/>
          <p:nvPr/>
        </p:nvPicPr>
        <p:blipFill>
          <a:blip r:embed="rId1"/>
          <a:stretch/>
        </p:blipFill>
        <p:spPr>
          <a:xfrm>
            <a:off x="1447920" y="2895480"/>
            <a:ext cx="62672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http://www.world-faiths.com/images/Maitreya.bud.1.jpg"/>
          <p:cNvPicPr/>
          <p:nvPr/>
        </p:nvPicPr>
        <p:blipFill>
          <a:blip r:embed="rId1"/>
          <a:stretch/>
        </p:blipFill>
        <p:spPr>
          <a:xfrm>
            <a:off x="914400" y="3683160"/>
            <a:ext cx="2575080" cy="3200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YMBOLS OF 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" descr="http://innerouteryou.com/blog/wp-content/uploads/buddhism.jpg"/>
          <p:cNvPicPr/>
          <p:nvPr/>
        </p:nvPicPr>
        <p:blipFill>
          <a:blip r:embed="rId2"/>
          <a:stretch/>
        </p:blipFill>
        <p:spPr>
          <a:xfrm>
            <a:off x="138240" y="1014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http://www.youngupstarts.com/wp-content/uploads/2012/05/symbol-buddhism-pink-lotus-flower.jpg"/>
          <p:cNvPicPr/>
          <p:nvPr/>
        </p:nvPicPr>
        <p:blipFill>
          <a:blip r:embed="rId3"/>
          <a:stretch/>
        </p:blipFill>
        <p:spPr>
          <a:xfrm>
            <a:off x="5257800" y="12193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C:\Users\alyons\Desktop\Global 2013\Korean Photos\DSC_0724.JPG"/>
          <p:cNvPicPr/>
          <p:nvPr/>
        </p:nvPicPr>
        <p:blipFill>
          <a:blip r:embed="rId4"/>
          <a:stretch/>
        </p:blipFill>
        <p:spPr>
          <a:xfrm>
            <a:off x="4343400" y="4038480"/>
            <a:ext cx="39625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2" descr="C:\Users\alyons\Desktop\Global 2013\Korean Photos\Lotus Tea Ceremony.JPG"/>
          <p:cNvPicPr/>
          <p:nvPr/>
        </p:nvPicPr>
        <p:blipFill>
          <a:blip r:embed="rId1"/>
          <a:stretch/>
        </p:blipFill>
        <p:spPr>
          <a:xfrm>
            <a:off x="3048120" y="380880"/>
            <a:ext cx="5832360" cy="387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alyons\Desktop\Global 2013\Korean Photos\Me with Sangdon Buddha.JPG"/>
          <p:cNvPicPr/>
          <p:nvPr/>
        </p:nvPicPr>
        <p:blipFill>
          <a:blip r:embed="rId2"/>
          <a:stretch/>
        </p:blipFill>
        <p:spPr>
          <a:xfrm>
            <a:off x="304920" y="1295280"/>
            <a:ext cx="34383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imilariti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ame traditions/roo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stress nonviolence and intense reflec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believe in karma, dharma, and reincarna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religion’s goal is to reach enlightenment (nirvana or moksha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fferen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 does not rely on priests- individuals can reach enlightenmen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 rejects caste syst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’s founder is a hum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ndus worship many gods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AND 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920" y="1096560"/>
            <a:ext cx="41148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Basic fact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Combination of many ancient religion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Began as a </a:t>
            </a:r>
            <a:r>
              <a:rPr b="0" lang="en-US" sz="1900" spc="-1" strike="noStrike">
                <a:solidFill>
                  <a:srgbClr val="ff0000"/>
                </a:solidFill>
                <a:latin typeface="Franklin Gothic Book"/>
              </a:rPr>
              <a:t>Polytheistic</a:t>
            </a: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 Religion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Aryan and Indus River Valley religion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More beliefs/ideas slowly added on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elief in many god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ll are part of an all-powerful spiritual force called </a:t>
            </a:r>
            <a:r>
              <a:rPr b="0" i="1" lang="en-US" sz="2200" spc="-1" strike="noStrike">
                <a:solidFill>
                  <a:srgbClr val="ff0000"/>
                </a:solidFill>
                <a:latin typeface="Franklin Gothic Book"/>
              </a:rPr>
              <a:t>brahman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766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057400" y="380520"/>
            <a:ext cx="3200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rinity of Important God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rahm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hiva (destroye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ishnu (preserve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 rot="19968600">
            <a:off x="-290520" y="-52200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RIMURTI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2" name="Picture 2" descr="http://upload.wikimedia.org/wikipedia/commons/b/bf/Shiva_as_the_Lord_of_Dance_LACMA_edit.jpg"/>
          <p:cNvPicPr/>
          <p:nvPr/>
        </p:nvPicPr>
        <p:blipFill>
          <a:blip r:embed="rId1"/>
          <a:stretch/>
        </p:blipFill>
        <p:spPr>
          <a:xfrm>
            <a:off x="457200" y="3429000"/>
            <a:ext cx="2749680" cy="353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indu-brahma.jpg"/>
          <p:cNvPicPr/>
          <p:nvPr/>
        </p:nvPicPr>
        <p:blipFill>
          <a:blip r:embed="rId2"/>
          <a:stretch/>
        </p:blipFill>
        <p:spPr>
          <a:xfrm>
            <a:off x="5105520" y="120600"/>
            <a:ext cx="36385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9907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asic Facts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cred texts-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Veda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Upanishad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hagavad-Git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ltimate goal of life is to achieve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moksh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or union with brahma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order to do this, a soul must be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reincarnated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rough different form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f you live according to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dharm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moral duty, and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ahims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nonviolence, you can move up each time you are reincarnat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Karma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efers to the actions you make in one life that determine your fate in the next lif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5" descr="http://1.bp.blogspot.com/-qVkjj_whYH8/USkw-oo13PI/AAAAAAAACgY/-GIM8ILK3U8/s640/karma.jpg"/>
          <p:cNvPicPr/>
          <p:nvPr/>
        </p:nvPicPr>
        <p:blipFill>
          <a:blip r:embed="rId1"/>
          <a:stretch/>
        </p:blipFill>
        <p:spPr>
          <a:xfrm>
            <a:off x="6019920" y="4419720"/>
            <a:ext cx="2325600" cy="225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www.indiebusinessnetwork.com/wp-content/uploads/2011/09/negativetopositive.jpg"/>
          <p:cNvPicPr/>
          <p:nvPr/>
        </p:nvPicPr>
        <p:blipFill>
          <a:blip r:embed="rId2"/>
          <a:stretch/>
        </p:blipFill>
        <p:spPr>
          <a:xfrm>
            <a:off x="2209680" y="4572000"/>
            <a:ext cx="2419560" cy="1712880"/>
          </a:xfrm>
          <a:prstGeom prst="rect">
            <a:avLst/>
          </a:prstGeom>
          <a:ln w="0">
            <a:noFill/>
          </a:ln>
        </p:spPr>
      </p:pic>
      <p:cxnSp>
        <p:nvCxnSpPr>
          <p:cNvPr id="228" name="Elbow Connector 2"/>
          <p:cNvCxnSpPr/>
          <p:nvPr/>
        </p:nvCxnSpPr>
        <p:spPr>
          <a:xfrm flipV="1">
            <a:off x="4419360" y="4647960"/>
            <a:ext cx="991080" cy="900720"/>
          </a:xfrm>
          <a:prstGeom prst="bentConnector3">
            <a:avLst>
              <a:gd name="adj1" fmla="val 50000"/>
            </a:avLst>
          </a:prstGeom>
          <a:ln w="6984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29" name="Elbow Connector 4"/>
          <p:cNvCxnSpPr/>
          <p:nvPr/>
        </p:nvCxnSpPr>
        <p:spPr>
          <a:xfrm flipV="1" rot="10800000">
            <a:off x="1218600" y="5426640"/>
            <a:ext cx="1219680" cy="973800"/>
          </a:xfrm>
          <a:prstGeom prst="bentConnector3">
            <a:avLst>
              <a:gd name="adj1" fmla="val 49985"/>
            </a:avLst>
          </a:prstGeom>
          <a:ln w="73080">
            <a:solidFill>
              <a:srgbClr val="76787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4762440" cy="666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5105520" y="182880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heel is an important Hindu symbol because it demonstrates the cyclical nature of life, or reincar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Caste System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layed an important role in Hinduism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elieve that each level was a different species of be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igher you were closer you were to moksha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3962520" y="533520"/>
            <a:ext cx="45432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2240" y="1100160"/>
            <a:ext cx="752184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aste system originally based on occupation – unable to move up it in lif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owever, it did provide social order/stabili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ovided identity and interdependence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arriage across castes was originally prohibite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efore long Hinduism spread throughout India and Asi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www.worldreligions.psu.edu/images/artimages/maps/asian%20religions.jpg"/>
          <p:cNvPicPr/>
          <p:nvPr/>
        </p:nvPicPr>
        <p:blipFill>
          <a:blip r:embed="rId1"/>
          <a:stretch/>
        </p:blipFill>
        <p:spPr>
          <a:xfrm>
            <a:off x="762120" y="457200"/>
            <a:ext cx="7789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560" y="10666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ased on teachings of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mortal ma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y is that important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Siddhartha Gautama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rn into royalty 563 BC and chose to wander country looking for life without suffer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nd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enlightenment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through meditatio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pent his life teaching his way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814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59:09Z</dcterms:created>
  <dc:creator>Sansbury, Kevin</dc:creator>
  <dc:description/>
  <dc:language>en-US</dc:language>
  <cp:lastModifiedBy>Windows User</cp:lastModifiedBy>
  <dcterms:modified xsi:type="dcterms:W3CDTF">2013-10-29T18:37:02Z</dcterms:modified>
  <cp:revision>15</cp:revision>
  <dc:subject/>
  <dc:title>3.2 Hinduism and Buddhism</dc:title>
</cp:coreProperties>
</file>